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9EF-B2C6-4070-A556-381BF09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615-7A59-4E9D-AB28-73FEC68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1ED-F7BA-4BCE-B836-9ADD08F3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111-00FF-4584-98F7-C77B2C2C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26F-52A5-4E56-87A6-29DB626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303-64E7-47A8-92A4-1A2C0F51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125-DF8E-48F6-B71C-3817D06C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600-2747-4773-9038-8B611E56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BDE-721F-4A54-BDCB-3C09AAE4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3A2-C54B-4D10-95D5-B47D5E1F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2EB-DED5-48DA-87BA-A417B2D0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567-EA89-4303-ADBC-4929189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D5A-E512-4302-866E-D95CD4B590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14400" y="-212760"/>
            <a:ext cx="731520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ease find your seat (name on index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W = 15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asswork = 2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zes/Tests/Projects = 6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914400" y="2971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Rectangle 8" descr=""/>
          <p:cNvPicPr/>
          <p:nvPr/>
        </p:nvPicPr>
        <p:blipFill>
          <a:blip r:embed="rId2"/>
          <a:stretch/>
        </p:blipFill>
        <p:spPr>
          <a:xfrm>
            <a:off x="1828800" y="358452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828800" y="4343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828800" y="4952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8288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sessments = 12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8" descr=""/>
          <p:cNvPicPr/>
          <p:nvPr/>
        </p:nvPicPr>
        <p:blipFill>
          <a:blip r:embed="rId1"/>
          <a:stretch/>
        </p:blipFill>
        <p:spPr>
          <a:xfrm>
            <a:off x="3144960" y="1517760"/>
            <a:ext cx="2732040" cy="927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304920" y="248292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22860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Section 1.1 n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write your name in your textboo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1337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541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lso teach AP Stat &amp;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aking conclusions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mbination of Math and 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447920" y="4006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arning through experiments/studies/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536400" y="-208080"/>
            <a:ext cx="7979040" cy="1774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c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09480" y="1523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ork load (HW, reading book, classwor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vel of mate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9480" y="28195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Rectangle 6" descr=""/>
          <p:cNvPicPr/>
          <p:nvPr/>
        </p:nvPicPr>
        <p:blipFill>
          <a:blip r:embed="rId1"/>
          <a:stretch/>
        </p:blipFill>
        <p:spPr>
          <a:xfrm>
            <a:off x="2882880" y="0"/>
            <a:ext cx="2908440" cy="920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TI-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8" descr=""/>
          <p:cNvPicPr/>
          <p:nvPr/>
        </p:nvPicPr>
        <p:blipFill>
          <a:blip r:embed="rId2"/>
          <a:stretch/>
        </p:blipFill>
        <p:spPr>
          <a:xfrm>
            <a:off x="2895480" y="2975040"/>
            <a:ext cx="2335320" cy="92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 we’ve talk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743200" y="6494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743200" y="13352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Rectangle 6" descr=""/>
          <p:cNvPicPr/>
          <p:nvPr/>
        </p:nvPicPr>
        <p:blipFill>
          <a:blip r:embed="rId1"/>
          <a:stretch/>
        </p:blipFill>
        <p:spPr>
          <a:xfrm>
            <a:off x="2438280" y="-85680"/>
            <a:ext cx="3492720" cy="927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2743200" y="20210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tangle 8" descr=""/>
          <p:cNvPicPr/>
          <p:nvPr/>
        </p:nvPicPr>
        <p:blipFill>
          <a:blip r:embed="rId2"/>
          <a:stretch/>
        </p:blipFill>
        <p:spPr>
          <a:xfrm>
            <a:off x="0" y="2548080"/>
            <a:ext cx="9144000" cy="156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2743200" y="4114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743200" y="4800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743200" y="54100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743200" y="6059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905120" y="13352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905120" y="20210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Rectangle 6" descr=""/>
          <p:cNvPicPr/>
          <p:nvPr/>
        </p:nvPicPr>
        <p:blipFill>
          <a:blip r:embed="rId1"/>
          <a:stretch/>
        </p:blipFill>
        <p:spPr>
          <a:xfrm>
            <a:off x="384120" y="500040"/>
            <a:ext cx="8478720" cy="9208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8" descr=""/>
          <p:cNvPicPr/>
          <p:nvPr/>
        </p:nvPicPr>
        <p:blipFill>
          <a:blip r:embed="rId2"/>
          <a:stretch/>
        </p:blipFill>
        <p:spPr>
          <a:xfrm>
            <a:off x="2895480" y="3468600"/>
            <a:ext cx="2494080" cy="920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1905120" y="43070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1905120" y="49928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905120" y="56786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8%, all MC, in Ju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Rectangle 6" descr=""/>
          <p:cNvPicPr/>
          <p:nvPr/>
        </p:nvPicPr>
        <p:blipFill>
          <a:blip r:embed="rId1"/>
          <a:stretch/>
        </p:blipFill>
        <p:spPr>
          <a:xfrm>
            <a:off x="1054080" y="146160"/>
            <a:ext cx="7126200" cy="768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838080" y="1639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re Assessments (4)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% each, done in class, 12% 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8" descr=""/>
          <p:cNvPicPr/>
          <p:nvPr/>
        </p:nvPicPr>
        <p:blipFill>
          <a:blip r:embed="rId2"/>
          <a:stretch/>
        </p:blipFill>
        <p:spPr>
          <a:xfrm>
            <a:off x="2822400" y="36576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514600" y="5181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certain day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McNelis</cp:lastModifiedBy>
  <dcterms:modified xsi:type="dcterms:W3CDTF">2012-01-25T14:23:20Z</dcterms:modified>
  <cp:revision>42</cp:revision>
  <dc:subject/>
  <dc:title>Slide 1</dc:title>
</cp:coreProperties>
</file>